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F644-7C0A-4437-B4CA-5A7C63C2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lasses.midlandstech.edu/carterp/Courses/bio225/chap05/ss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36BE-772C-4BC4-AEBA-C8D599EBF05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lasses.midlandstech.edu/carterp/Courses/bio225/chap05/ss5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3423-5E51-49A1-8B82-B3EBAE35FC4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academic.brooklyn.cuny.edu/biology/bio4fv/page/3d_prot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F744-7AF6-4A9C-B368-467E1D63A78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21D7-52B2-4C3E-AB3A-01940CD4E8F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458B-73A8-4BC9-B274-C9F07E6C848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uture-of-technology.com/index.php?p=2_7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F40E-5E5F-4909-A822-B5852C1C2D6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0E5-9D02-4446-88BF-E351FFE6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0A3-47E6-4A97-898C-CD2828B3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EF3-DC0A-4967-AFB1-1B07332A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8E0-63A8-4A41-9F21-A10E2AE1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46D-9289-4707-AFD1-327803FD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763-7BFA-4785-9927-47E1C129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FB4-6181-4EDC-AD28-5B3F77C9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1AC-6425-455E-BDB8-66655935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6EB-36F2-4C0B-B25F-87CCFA2E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601-7934-47C4-B35B-1120FD6F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B20-30DD-4E27-88E6-56AE9E4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1D4-CDB8-4845-B58B-E00FD16C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26F8-6014-4124-B719-95DE901D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 to Gluc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54040" y="609480"/>
            <a:ext cx="623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carbohydrates, proteins and lipids can also be metabolized for energy by entering into a part of glycolysis or 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33440" y="1981080"/>
            <a:ext cx="467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digested into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 groups are then removed in a proces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99000" y="1905120"/>
            <a:ext cx="210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hemical reactions will convert the remaining part of the amino acids into intermediates of glycolysis or 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116600"/>
        </p:xfrm>
        <a:graphic>
          <a:graphicData uri="http://schemas.openxmlformats.org/drawingml/2006/table">
            <a:tbl>
              <a:tblPr/>
              <a:tblGrid>
                <a:gridCol w="4749840"/>
                <a:gridCol w="3022560"/>
              </a:tblGrid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ine, cysteine, glycine, serine, threo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uv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ine, lys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yl-C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m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agine, aspar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, glutamate, glutamine, histidine, pro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etoglut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fats digested by humans are triglyce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lycerides are first digested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lyce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27576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pid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is either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H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n G3P), and enters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xygen is present, fatty acids are transported to the matrix of the mitochondria and under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β-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β-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tty acid chain is cleaved into 2-carbon acetyl groups, which are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etyl-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n enter 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ATP are 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ctivate the 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leavage produ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NAD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FADH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1:38Z</dcterms:created>
  <dc:creator>rubina khan</dc:creator>
  <dc:description/>
  <dc:language>en-US</dc:language>
  <cp:lastModifiedBy>rubina khan</cp:lastModifiedBy>
  <dcterms:modified xsi:type="dcterms:W3CDTF">2013-03-26T01:29:04Z</dcterms:modified>
  <cp:revision>79</cp:revision>
  <dc:subject/>
  <dc:title>Anaerobic Pathways</dc:title>
</cp:coreProperties>
</file>